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EE4BA-DDC9-432E-9350-D6D64ED3A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017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E5148-16B2-4112-8F36-C554AE660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187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83C4F-B0CE-4298-9C08-6BDB6ABAA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41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666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017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41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666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00EB6-9399-426A-B667-FB884B27B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71BA7-4C38-4D5E-89A5-96097464B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6BE4D-FEC8-4397-9B46-D2021DE49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63221-47E5-4D86-8418-9EB84BBEB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5915C-9424-435D-838A-3FEEE11C5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D513F-0063-485F-A701-81A3153DE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0172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EEC43-8F09-46B5-9B1B-F6E02F0AE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D4EDE-8096-4052-8A93-4BAC3646E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406C9-3B4B-4A7E-808E-43A198E14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187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945C1-3B33-4C12-9F56-93ED0C6C6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9734F-7152-41BE-B797-5F5F4AFA0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017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727D0-3D51-4E53-A009-3FCB78E19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187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11043-19FD-4441-A397-539D37D91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841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3666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017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841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3666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33F12-9956-4609-9BBE-35A1E5F2F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0E703-39A7-4AB6-8CC7-AE5F1F967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06B92-44FF-4642-8EEB-4F59960CC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93252-E921-4063-BC5D-5D630BCB2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0172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943C1-80AA-4AFB-9509-9C2C0FDA7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47F47-94E5-464A-B70F-F9D3C3E62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187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FDB20-03DF-4F2D-9AD0-E36BE4A9B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842AE-8D39-4484-BB58-A1F07F4AE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26A34-6D3E-458C-B015-D7CADBACD5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17F9F-C4AD-41C2-80E6-EADB70FB22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8800" y="1514520"/>
            <a:ext cx="8415360" cy="2913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12 декабря</a:t>
            </a: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 –</a:t>
            </a:r>
            <a:br>
              <a:rPr sz="4000"/>
            </a:br>
            <a:r>
              <a:rPr b="1" lang="ru-RU" sz="5400" spc="-1" strike="noStrike">
                <a:solidFill>
                  <a:srgbClr val="cc0000"/>
                </a:solidFill>
                <a:latin typeface="Arial"/>
              </a:rPr>
              <a:t>День </a:t>
            </a:r>
            <a:br>
              <a:rPr sz="5400"/>
            </a:br>
            <a:r>
              <a:rPr b="1" lang="ru-RU" sz="5400" spc="-1" strike="noStrike">
                <a:solidFill>
                  <a:srgbClr val="cc0000"/>
                </a:solidFill>
                <a:latin typeface="Arial"/>
              </a:rPr>
              <a:t>Конституции РФ</a:t>
            </a:r>
            <a:br>
              <a:rPr sz="5400"/>
            </a:br>
            <a:br>
              <a:rPr sz="5400"/>
            </a:b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Автор: Староверов А.Л.- учитель обществозн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pull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301"/>
              </a:spcBef>
              <a:buClr>
                <a:srgbClr val="202a5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202a51"/>
                </a:solidFill>
                <a:latin typeface="Times New Roman"/>
              </a:rPr>
              <a:t> </a:t>
            </a:r>
            <a:r>
              <a:rPr b="1" lang="ru-RU" sz="2600" spc="-1" strike="noStrike">
                <a:solidFill>
                  <a:srgbClr val="cc0000"/>
                </a:solidFill>
                <a:latin typeface="Times New Roman"/>
              </a:rPr>
              <a:t>Конституция Российской Федерации</a:t>
            </a:r>
            <a:r>
              <a:rPr b="1" lang="ru-RU" sz="2600" spc="-1" strike="noStrike">
                <a:solidFill>
                  <a:srgbClr val="202a51"/>
                </a:solidFill>
                <a:latin typeface="Times New Roman"/>
              </a:rPr>
              <a:t>  - это </a:t>
            </a:r>
            <a:r>
              <a:rPr b="1" i="1" lang="ru-RU" sz="2600" spc="-1" strike="noStrike">
                <a:solidFill>
                  <a:srgbClr val="cc0000"/>
                </a:solidFill>
                <a:latin typeface="Times New Roman"/>
              </a:rPr>
              <a:t>основной закон</a:t>
            </a:r>
            <a:r>
              <a:rPr b="1" lang="ru-RU" sz="2600" spc="-1" strike="noStrike">
                <a:solidFill>
                  <a:srgbClr val="202a51"/>
                </a:solidFill>
                <a:latin typeface="Times New Roman"/>
              </a:rPr>
              <a:t> нашего государства, который имеет высшую юридическую силу, прямое действие и применяется на всей территории РФ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01"/>
              </a:spcBef>
              <a:buClr>
                <a:srgbClr val="202a5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202a51"/>
                </a:solidFill>
                <a:latin typeface="Times New Roman"/>
              </a:rPr>
              <a:t> </a:t>
            </a:r>
            <a:r>
              <a:rPr b="1" lang="ru-RU" sz="2600" spc="-1" strike="noStrike">
                <a:solidFill>
                  <a:srgbClr val="cc0000"/>
                </a:solidFill>
                <a:latin typeface="Times New Roman"/>
              </a:rPr>
              <a:t>Конституция</a:t>
            </a:r>
            <a:r>
              <a:rPr b="1" lang="ru-RU" sz="2600" spc="-1" strike="noStrike">
                <a:solidFill>
                  <a:srgbClr val="202a51"/>
                </a:solidFill>
                <a:latin typeface="Times New Roman"/>
              </a:rPr>
              <a:t> - это основной закон государства, к которому должны быть подлажены все остальные законы. Если какой-то закон все же противоречит Конституции, то поступать следует так, как указывает он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4"/>
          <p:cNvSpPr/>
          <p:nvPr/>
        </p:nvSpPr>
        <p:spPr>
          <a:xfrm>
            <a:off x="0" y="390600"/>
            <a:ext cx="9074160" cy="9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Times New Roman"/>
              </a:rPr>
              <a:t>Конституция Р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pull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4920" y="313920"/>
            <a:ext cx="907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Структура Конститу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8359920" cy="41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02a51"/>
                </a:solidFill>
                <a:latin typeface="Arial"/>
              </a:rPr>
              <a:t>Преамбу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02a51"/>
                </a:solidFill>
                <a:latin typeface="Arial"/>
              </a:rPr>
              <a:t>Раздел первы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202a51"/>
                </a:solidFill>
                <a:latin typeface="Arial"/>
              </a:rPr>
              <a:t>Глава 1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202a51"/>
                </a:solidFill>
                <a:latin typeface="Arial"/>
              </a:rPr>
              <a:t>Основы конституционного строя (ст.1-1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202a51"/>
                </a:solidFill>
                <a:latin typeface="Arial"/>
              </a:rPr>
              <a:t>Глава 2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202a51"/>
                </a:solidFill>
                <a:latin typeface="Arial"/>
              </a:rPr>
              <a:t>Права и свободы человека и гражданина (ст.17-6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202a51"/>
                </a:solidFill>
                <a:latin typeface="Arial"/>
              </a:rPr>
              <a:t>Глава 3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202a51"/>
                </a:solidFill>
                <a:latin typeface="Arial"/>
              </a:rPr>
              <a:t>федеральное устройство (ст.65-7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202a51"/>
                </a:solidFill>
                <a:latin typeface="Arial"/>
              </a:rPr>
              <a:t>Глава 4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202a51"/>
                </a:solidFill>
                <a:latin typeface="Arial"/>
              </a:rPr>
              <a:t>Президент Российской Федерации (ст.80-9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202a51"/>
                </a:solidFill>
                <a:latin typeface="Arial"/>
              </a:rPr>
              <a:t>Глава 5.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202a51"/>
                </a:solidFill>
                <a:latin typeface="Arial"/>
              </a:rPr>
              <a:t>Федеральное собрание (ст.94-10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202a51"/>
                </a:solidFill>
                <a:latin typeface="Arial"/>
              </a:rPr>
              <a:t>Глава 6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202a51"/>
                </a:solidFill>
                <a:latin typeface="Arial"/>
              </a:rPr>
              <a:t>Правительство Российской Федерации (ст.110-11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202a51"/>
                </a:solidFill>
                <a:latin typeface="Arial"/>
              </a:rPr>
              <a:t>Глава 7.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202a51"/>
                </a:solidFill>
                <a:latin typeface="Arial"/>
              </a:rPr>
              <a:t>Судебная власть (ст.118-12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202a51"/>
                </a:solidFill>
                <a:latin typeface="Arial"/>
              </a:rPr>
              <a:t>Глава 8.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202a51"/>
                </a:solidFill>
                <a:latin typeface="Arial"/>
              </a:rPr>
              <a:t>Местное самоуправление (ст.130-13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202a51"/>
                </a:solidFill>
                <a:latin typeface="Arial"/>
              </a:rPr>
              <a:t>Глава 9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202a51"/>
                </a:solidFill>
                <a:latin typeface="Arial"/>
              </a:rPr>
              <a:t>Конституционные поправки и пересмот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02a51"/>
                </a:solidFill>
                <a:latin typeface="Arial"/>
              </a:rPr>
              <a:t>                  </a:t>
            </a:r>
            <a:r>
              <a:rPr b="1" lang="ru-RU" sz="2000" spc="-1" strike="noStrike">
                <a:solidFill>
                  <a:srgbClr val="202a51"/>
                </a:solidFill>
                <a:latin typeface="Arial"/>
              </a:rPr>
              <a:t>конституции (ст.134-13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02a51"/>
                </a:solidFill>
                <a:latin typeface="Arial"/>
              </a:rPr>
              <a:t>Раздел второй. Заключительные и переходные полож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pull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1332000" y="1773360"/>
            <a:ext cx="6624720" cy="278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440" indent="0">
              <a:lnSpc>
                <a:spcPct val="10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02a51"/>
                </a:solidFill>
                <a:latin typeface="Times New Roman"/>
              </a:rPr>
              <a:t>Конституция РФ </a:t>
            </a:r>
            <a:r>
              <a:rPr b="1" i="1" lang="ru-RU" sz="2800" spc="-1" strike="noStrike">
                <a:solidFill>
                  <a:srgbClr val="cc0000"/>
                </a:solidFill>
                <a:latin typeface="Times New Roman"/>
              </a:rPr>
              <a:t>закрепляет</a:t>
            </a:r>
            <a:r>
              <a:rPr b="1" lang="ru-RU" sz="2800" spc="-1" strike="noStrike">
                <a:solidFill>
                  <a:srgbClr val="202a51"/>
                </a:solidFill>
                <a:latin typeface="Times New Roman"/>
              </a:rPr>
              <a:t> основы конституционного строя России, права и свободы человека и гражданина, федеративное устройство, организацию высших органов государственной вла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34920" y="523800"/>
            <a:ext cx="9074160" cy="99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Times New Roman"/>
              </a:rPr>
              <a:t>Конституция Р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pull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4920" y="523800"/>
            <a:ext cx="9074160" cy="99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Наши пра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9640" y="1484280"/>
            <a:ext cx="8229600" cy="365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400"/>
              </a:spcBef>
              <a:buClr>
                <a:srgbClr val="202a5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02a51"/>
                </a:solidFill>
                <a:latin typeface="Times New Roman"/>
              </a:rPr>
              <a:t>По Конституции нашей страны мы имеем право на жизнь, имеем право выбирать профессию, имеем право на отдых, жилье и медицинскую помощ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00"/>
              </a:spcBef>
              <a:buClr>
                <a:srgbClr val="202a5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02a51"/>
                </a:solidFill>
                <a:latin typeface="Times New Roman"/>
              </a:rPr>
              <a:t>Все люди равны перед законом, и каждого из нас защищает государство, через милицию и су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pull dir="r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4920" y="293400"/>
            <a:ext cx="907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Наши свобод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95280" y="1267920"/>
            <a:ext cx="8569440" cy="40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202a5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02a51"/>
                </a:solidFill>
                <a:latin typeface="Times New Roman"/>
              </a:rPr>
              <a:t>Наши свободы – свобода слова, вероисповедания и совест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202a5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02a51"/>
                </a:solidFill>
                <a:latin typeface="Times New Roman"/>
              </a:rPr>
              <a:t>По этому закону все права и свободы, данные нам государством, не должны нарушать или ущемлять права и свободы других граждан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202a5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02a51"/>
                </a:solidFill>
                <a:latin typeface="Times New Roman"/>
              </a:rPr>
              <a:t>Например, свобода слова – мы имеем право искать, собирать и распространять информацию, но не имеем права вмешиваться в личную жизнь других людей, разглашать государственную тайн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pull dir="r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294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Конституция для школьни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5121360" cy="289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02a51"/>
                </a:solidFill>
                <a:latin typeface="Times New Roman"/>
              </a:rPr>
              <a:t>Каждый ученик может подробнее узнать о Конституции РФ, прочитав сам закон, или специальный справочник для школьник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3" descr=""/>
          <p:cNvPicPr/>
          <p:nvPr/>
        </p:nvPicPr>
        <p:blipFill>
          <a:blip r:embed="rId1"/>
          <a:stretch/>
        </p:blipFill>
        <p:spPr>
          <a:xfrm>
            <a:off x="5613480" y="1538280"/>
            <a:ext cx="2909880" cy="465768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pull dir="r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-36360" y="1989000"/>
            <a:ext cx="9144000" cy="1704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c0000"/>
                </a:solidFill>
                <a:latin typeface="Arial"/>
              </a:rPr>
              <a:t>Спасибо за внимани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pull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34880" y="1137960"/>
            <a:ext cx="8213760" cy="393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Любая конституция</a:t>
            </a:r>
            <a:r>
              <a:rPr b="1" lang="ru-RU" sz="2800" spc="-1" strike="noStrike">
                <a:solidFill>
                  <a:srgbClr val="202a51"/>
                </a:solidFill>
                <a:latin typeface="Arial"/>
              </a:rPr>
              <a:t> – это документ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02a51"/>
                </a:solidFill>
                <a:latin typeface="Arial"/>
              </a:rPr>
              <a:t>который закрепляет основы конституционного строя государства, права и свободы человека и гражданина, основы общественного строя, форму правления и территориального устройства, организацию высших органов государственной власти, столицу государства и государственную символику.</a:t>
            </a:r>
            <a:r>
              <a:rPr b="0" lang="ru-RU" sz="2800" spc="-1" strike="noStrike">
                <a:solidFill>
                  <a:srgbClr val="202a51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pull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23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История Конституции Росс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402920" y="1628280"/>
            <a:ext cx="6612120" cy="338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202a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02a51"/>
                </a:solidFill>
                <a:latin typeface="Arial"/>
              </a:rPr>
              <a:t>1918</a:t>
            </a:r>
            <a:r>
              <a:rPr b="1" lang="en-US" sz="3200" spc="-1" strike="noStrike">
                <a:solidFill>
                  <a:srgbClr val="202a51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202a51"/>
                </a:solidFill>
                <a:latin typeface="Arial"/>
              </a:rPr>
              <a:t>г. Конституция РСФС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02a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02a51"/>
                </a:solidFill>
                <a:latin typeface="Arial"/>
              </a:rPr>
              <a:t>1924</a:t>
            </a:r>
            <a:r>
              <a:rPr b="1" lang="en-US" sz="3200" spc="-1" strike="noStrike">
                <a:solidFill>
                  <a:srgbClr val="202a51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202a51"/>
                </a:solidFill>
                <a:latin typeface="Arial"/>
              </a:rPr>
              <a:t>г. Конституция ССС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02a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02a51"/>
                </a:solidFill>
                <a:latin typeface="Arial"/>
              </a:rPr>
              <a:t>1936</a:t>
            </a:r>
            <a:r>
              <a:rPr b="1" lang="en-US" sz="3200" spc="-1" strike="noStrike">
                <a:solidFill>
                  <a:srgbClr val="202a51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202a51"/>
                </a:solidFill>
                <a:latin typeface="Arial"/>
              </a:rPr>
              <a:t>г. Конституция ССС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02a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02a51"/>
                </a:solidFill>
                <a:latin typeface="Arial"/>
              </a:rPr>
              <a:t>1977</a:t>
            </a:r>
            <a:r>
              <a:rPr b="1" lang="en-US" sz="3200" spc="-1" strike="noStrike">
                <a:solidFill>
                  <a:srgbClr val="202a51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202a51"/>
                </a:solidFill>
                <a:latin typeface="Arial"/>
              </a:rPr>
              <a:t>г. Конституция ССС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02a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02a51"/>
                </a:solidFill>
                <a:latin typeface="Arial"/>
              </a:rPr>
              <a:t>1993</a:t>
            </a:r>
            <a:r>
              <a:rPr b="1" lang="en-US" sz="3200" spc="-1" strike="noStrike">
                <a:solidFill>
                  <a:srgbClr val="202a51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202a51"/>
                </a:solidFill>
                <a:latin typeface="Arial"/>
              </a:rPr>
              <a:t>г. Конституция Р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pull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86920" y="256680"/>
            <a:ext cx="7961400" cy="126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Конституция РСФСР 1918</a:t>
            </a: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г.</a:t>
            </a:r>
            <a:r>
              <a:rPr b="1" lang="ru-RU" sz="48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39440" y="1444320"/>
            <a:ext cx="529596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353880"/>
                <a:tab algn="l" pos="708120"/>
                <a:tab algn="l" pos="1062000"/>
                <a:tab algn="l" pos="1415880"/>
                <a:tab algn="l" pos="1770120"/>
                <a:tab algn="l" pos="2124000"/>
                <a:tab algn="l" pos="2478240"/>
                <a:tab algn="l" pos="2832120"/>
                <a:tab algn="l" pos="3186000"/>
                <a:tab algn="l" pos="3540240"/>
                <a:tab algn="l" pos="3894120"/>
                <a:tab algn="l" pos="4248000"/>
                <a:tab algn="l" pos="4602240"/>
                <a:tab algn="l" pos="4956120"/>
                <a:tab algn="l" pos="5310360"/>
                <a:tab algn="l" pos="5664240"/>
                <a:tab algn="l" pos="6018120"/>
                <a:tab algn="l" pos="6372360"/>
                <a:tab algn="l" pos="6726240"/>
                <a:tab algn="l" pos="7080120"/>
              </a:tabLst>
            </a:pPr>
            <a:r>
              <a:rPr b="1" lang="ru-RU" sz="2000" spc="-1" strike="noStrike">
                <a:solidFill>
                  <a:srgbClr val="202a51"/>
                </a:solidFill>
                <a:latin typeface="Arial"/>
              </a:rPr>
              <a:t>Конституция содержала 6 разделов, 17 глав и 90 статей. Конституция 1918 г</a:t>
            </a:r>
            <a:r>
              <a:rPr b="1" lang="en-US" sz="2000" spc="-1" strike="noStrike">
                <a:solidFill>
                  <a:srgbClr val="202a51"/>
                </a:solidFill>
                <a:latin typeface="Arial"/>
              </a:rPr>
              <a:t>.</a:t>
            </a:r>
            <a:r>
              <a:rPr b="1" lang="ru-RU" sz="2000" spc="-1" strike="noStrike">
                <a:solidFill>
                  <a:srgbClr val="202a51"/>
                </a:solidFill>
                <a:latin typeface="Arial"/>
              </a:rPr>
              <a:t> закрепила диктатуру пролетариат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353880"/>
                <a:tab algn="l" pos="708120"/>
                <a:tab algn="l" pos="1062000"/>
                <a:tab algn="l" pos="1415880"/>
                <a:tab algn="l" pos="1770120"/>
                <a:tab algn="l" pos="2124000"/>
                <a:tab algn="l" pos="2478240"/>
                <a:tab algn="l" pos="2832120"/>
                <a:tab algn="l" pos="3186000"/>
                <a:tab algn="l" pos="3540240"/>
                <a:tab algn="l" pos="3894120"/>
                <a:tab algn="l" pos="4248000"/>
                <a:tab algn="l" pos="4602240"/>
                <a:tab algn="l" pos="4956120"/>
                <a:tab algn="l" pos="5310360"/>
                <a:tab algn="l" pos="5664240"/>
                <a:tab algn="l" pos="6018120"/>
                <a:tab algn="l" pos="6372360"/>
                <a:tab algn="l" pos="6726240"/>
                <a:tab algn="l" pos="7080120"/>
              </a:tabLst>
            </a:pPr>
            <a:r>
              <a:rPr b="1" lang="ru-RU" sz="2000" spc="-1" strike="noStrike">
                <a:solidFill>
                  <a:srgbClr val="202a51"/>
                </a:solidFill>
                <a:latin typeface="Arial"/>
              </a:rPr>
              <a:t>Лица, жившие на нетрудовые доходы или использовавшие наемный труд были лишены политических пра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353880"/>
                <a:tab algn="l" pos="708120"/>
                <a:tab algn="l" pos="1062000"/>
                <a:tab algn="l" pos="1415880"/>
                <a:tab algn="l" pos="1770120"/>
                <a:tab algn="l" pos="2124000"/>
                <a:tab algn="l" pos="2478240"/>
                <a:tab algn="l" pos="2832120"/>
                <a:tab algn="l" pos="3186000"/>
                <a:tab algn="l" pos="3540240"/>
                <a:tab algn="l" pos="3894120"/>
                <a:tab algn="l" pos="4248000"/>
                <a:tab algn="l" pos="4602240"/>
                <a:tab algn="l" pos="4956120"/>
                <a:tab algn="l" pos="5310360"/>
                <a:tab algn="l" pos="5664240"/>
                <a:tab algn="l" pos="6018120"/>
                <a:tab algn="l" pos="6372360"/>
                <a:tab algn="l" pos="6726240"/>
                <a:tab algn="l" pos="7080120"/>
              </a:tabLst>
            </a:pPr>
            <a:r>
              <a:rPr b="1" lang="ru-RU" sz="2000" spc="-1" strike="noStrike">
                <a:solidFill>
                  <a:srgbClr val="202a51"/>
                </a:solidFill>
                <a:latin typeface="Arial"/>
              </a:rPr>
              <a:t>Данная Конституция была </a:t>
            </a:r>
            <a:r>
              <a:rPr b="1" lang="ru-RU" sz="2200" spc="-1" strike="noStrike">
                <a:solidFill>
                  <a:srgbClr val="cc0000"/>
                </a:solidFill>
                <a:latin typeface="Arial"/>
              </a:rPr>
              <a:t>самой идеологизированной</a:t>
            </a:r>
            <a:r>
              <a:rPr b="1" lang="ru-RU" sz="2000" spc="-1" strike="noStrike">
                <a:solidFill>
                  <a:srgbClr val="202a51"/>
                </a:solidFill>
                <a:latin typeface="Arial"/>
              </a:rPr>
              <a:t> из всех советских конституци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353880"/>
                <a:tab algn="l" pos="708120"/>
                <a:tab algn="l" pos="1062000"/>
                <a:tab algn="l" pos="1415880"/>
                <a:tab algn="l" pos="1770120"/>
                <a:tab algn="l" pos="2124000"/>
                <a:tab algn="l" pos="2478240"/>
                <a:tab algn="l" pos="2832120"/>
                <a:tab algn="l" pos="3186000"/>
                <a:tab algn="l" pos="3540240"/>
                <a:tab algn="l" pos="3894120"/>
                <a:tab algn="l" pos="4248000"/>
                <a:tab algn="l" pos="4602240"/>
                <a:tab algn="l" pos="4956120"/>
                <a:tab algn="l" pos="5310360"/>
                <a:tab algn="l" pos="5664240"/>
                <a:tab algn="l" pos="6018120"/>
                <a:tab algn="l" pos="6372360"/>
                <a:tab algn="l" pos="6726240"/>
                <a:tab algn="l" pos="7080120"/>
              </a:tabLst>
            </a:pPr>
            <a:r>
              <a:rPr b="1" lang="ru-RU" sz="2000" spc="-1" strike="noStrike">
                <a:solidFill>
                  <a:srgbClr val="202a51"/>
                </a:solidFill>
                <a:latin typeface="Arial"/>
              </a:rPr>
              <a:t>Она утратила силу в связи с принятием Конституции 1924</a:t>
            </a:r>
            <a:r>
              <a:rPr b="1" lang="en-US" sz="2000" spc="-1" strike="noStrike">
                <a:solidFill>
                  <a:srgbClr val="202a51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202a51"/>
                </a:solidFill>
                <a:latin typeface="Arial"/>
              </a:rPr>
              <a:t>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220px-Обложка_Конституции_РСФСР_1918_года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6156360" y="1484280"/>
            <a:ext cx="2539800" cy="370692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pull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10920" y="764640"/>
            <a:ext cx="5352840" cy="1217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Конституция СССР </a:t>
            </a:r>
            <a:br>
              <a:rPr sz="4000"/>
            </a:b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1924 г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26680" y="2639520"/>
            <a:ext cx="8240760" cy="28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02a51"/>
                </a:solidFill>
                <a:latin typeface="Arial"/>
              </a:rPr>
              <a:t>В 1922 года I съезд Советов СССР утвердил Договор об образовании СССР. Договор подписали четыре республики: Россия, Украина, Белоруссия и Закавказье (в состав которой входили Грузия, Армения, Азербайджан). Каждая из республик уже имела свою конституцию. Съезд принял решение о разработке общесоюзной конституции. 1924 года Конституция была единогласно принята II съездом Совет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ussr"/>
          <p:cNvPicPr/>
          <p:nvPr/>
        </p:nvPicPr>
        <p:blipFill>
          <a:blip r:embed="rId1"/>
          <a:stretch/>
        </p:blipFill>
        <p:spPr>
          <a:xfrm>
            <a:off x="6369120" y="210960"/>
            <a:ext cx="2262240" cy="231804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pull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55480" y="379080"/>
            <a:ext cx="523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Конституция СССР </a:t>
            </a:r>
            <a:br>
              <a:rPr sz="4000"/>
            </a:b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1936 г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5694480" cy="28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202a51"/>
                </a:solidFill>
                <a:latin typeface="Arial"/>
              </a:rPr>
              <a:t>Неофициальное название: </a:t>
            </a:r>
            <a:r>
              <a:rPr b="1" lang="ru-RU" sz="2200" spc="-1" strike="noStrike">
                <a:solidFill>
                  <a:srgbClr val="cc0000"/>
                </a:solidFill>
                <a:latin typeface="Arial"/>
              </a:rPr>
              <a:t>«Сталинская конституция»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ru-RU" sz="2200" spc="-1" strike="noStrike">
                <a:solidFill>
                  <a:srgbClr val="202a51"/>
                </a:solidFill>
                <a:latin typeface="Arial"/>
              </a:rPr>
              <a:t> Несмотря на свое название, основным автором конституции был впоследствии репрессированный Николай Бухарин. В работе над текстом конституции непосредственно принимал участие И.В. Сталин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4" descr="0_1c0d6_199e7891_XL"/>
          <p:cNvPicPr/>
          <p:nvPr/>
        </p:nvPicPr>
        <p:blipFill>
          <a:blip r:embed="rId1"/>
          <a:stretch/>
        </p:blipFill>
        <p:spPr>
          <a:xfrm>
            <a:off x="6000840" y="438120"/>
            <a:ext cx="2766960" cy="401148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5"/>
          <p:cNvSpPr/>
          <p:nvPr/>
        </p:nvSpPr>
        <p:spPr>
          <a:xfrm>
            <a:off x="3564000" y="4724280"/>
            <a:ext cx="5603760" cy="15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02a51"/>
                </a:solidFill>
                <a:latin typeface="Arial"/>
              </a:rPr>
              <a:t>Конституция 1936 года по замыслу авторов должна была отразить важный этап в истории Советского государства – построение социализма. В ее обсуждении впервые участвовало 75 млн. че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pull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2980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Конституция СССР 1977 г.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4000" y="1557360"/>
            <a:ext cx="487044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202a51"/>
                </a:solidFill>
                <a:latin typeface="Arial"/>
              </a:rPr>
              <a:t>Эта конституция закрепляла однопартийную политическую систему (КПСС). Несмотря на распад СССР действовала на территории России до 1993 г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202a51"/>
                </a:solidFill>
                <a:latin typeface="Arial"/>
              </a:rPr>
              <a:t>Вошла в историю как «конституция развитого социализма» ил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cc0000"/>
                </a:solidFill>
                <a:latin typeface="Arial"/>
              </a:rPr>
              <a:t>«Брежневская конституция»</a:t>
            </a:r>
            <a:r>
              <a:rPr b="1" lang="ru-RU" sz="2200" spc="-1" strike="noStrike">
                <a:solidFill>
                  <a:srgbClr val="202a51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brezh"/>
          <p:cNvPicPr/>
          <p:nvPr/>
        </p:nvPicPr>
        <p:blipFill>
          <a:blip r:embed="rId1">
            <a:lum bright="-6000"/>
          </a:blip>
          <a:srcRect l="0" t="1087" r="0" b="0"/>
          <a:stretch/>
        </p:blipFill>
        <p:spPr>
          <a:xfrm>
            <a:off x="5724360" y="1628640"/>
            <a:ext cx="2368800" cy="323856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pull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3474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12 декабря 1993 год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02a51"/>
                </a:solidFill>
                <a:latin typeface="Arial"/>
              </a:rPr>
              <a:t>Всенародным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202a51"/>
                </a:solidFill>
                <a:latin typeface="Arial"/>
              </a:rPr>
              <a:t>голосованием была принята </a:t>
            </a: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Конституция Российской Федерации</a:t>
            </a:r>
            <a:r>
              <a:rPr b="1" lang="ru-RU" sz="2800" spc="-1" strike="noStrike">
                <a:solidFill>
                  <a:srgbClr val="202a51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02a51"/>
                </a:solidFill>
                <a:latin typeface="Arial"/>
              </a:rPr>
              <a:t>С 2005 года 12 декабря не является в России выходным днём.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День Конституции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202a51"/>
                </a:solidFill>
                <a:latin typeface="Arial"/>
              </a:rPr>
              <a:t>причислен к памятным датам Росс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5435640" y="4221000"/>
            <a:ext cx="2925720" cy="229104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pull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94920" y="620640"/>
            <a:ext cx="655308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cc0000"/>
                </a:solidFill>
                <a:latin typeface="Arial"/>
              </a:rPr>
              <a:t>К 15-летию Конституции</a:t>
            </a:r>
            <a:r>
              <a:rPr b="1" lang="ru-RU" sz="2600" spc="-1" strike="noStrike">
                <a:solidFill>
                  <a:srgbClr val="202a51"/>
                </a:solidFill>
                <a:latin typeface="Arial"/>
              </a:rPr>
              <a:t> в 2008 году Президент России </a:t>
            </a:r>
            <a:r>
              <a:rPr b="1" lang="ru-RU" sz="2600" spc="-1" strike="noStrike">
                <a:solidFill>
                  <a:srgbClr val="cc0000"/>
                </a:solidFill>
                <a:latin typeface="Arial"/>
              </a:rPr>
              <a:t>Дмитрий Медведев</a:t>
            </a:r>
            <a:r>
              <a:rPr b="1" lang="ru-RU" sz="2600" spc="-1" strike="noStrike">
                <a:solidFill>
                  <a:srgbClr val="202a51"/>
                </a:solidFill>
                <a:latin typeface="Arial"/>
              </a:rPr>
              <a:t> сказал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8000" y="2204640"/>
            <a:ext cx="8332920" cy="33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202a51"/>
                </a:solidFill>
                <a:latin typeface="Arial"/>
              </a:rPr>
              <a:t>«12 декабря 1993 года в нашей стране впервые за её историю был принят принципиально новый Основной закон – такой Закон, который признал высшей ценностью человека, его права и свободы, который установил основы демократического порядка России и обязавший государство на деле соблюдать и защищать эти новые базовые ценности.»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4" descr="280px-Dmitry_Medvedev_official_large_photo_-5"/>
          <p:cNvPicPr/>
          <p:nvPr/>
        </p:nvPicPr>
        <p:blipFill>
          <a:blip r:embed="rId1"/>
          <a:stretch/>
        </p:blipFill>
        <p:spPr>
          <a:xfrm>
            <a:off x="6948360" y="333360"/>
            <a:ext cx="1565280" cy="181440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pull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1T10:35:24Z</dcterms:created>
  <dc:creator>1</dc:creator>
  <dc:description/>
  <dc:language>en-US</dc:language>
  <cp:lastModifiedBy>учителя</cp:lastModifiedBy>
  <dcterms:modified xsi:type="dcterms:W3CDTF">2013-11-16T09:01:20Z</dcterms:modified>
  <cp:revision>48</cp:revision>
  <dc:subject/>
  <dc:title>Слайд 1</dc:title>
</cp:coreProperties>
</file>